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-360" y="0"/>
            <a:ext cx="666900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vantGarde Bk BT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442C-E5FA-4139-8332-6EEAEFA86F0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-73080" y="0"/>
            <a:ext cx="6815160" cy="51134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수학 문제 풀 때… 이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공식 다 알고 있어도 문제 풀기는 어려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-73080" y="0"/>
            <a:ext cx="6815160" cy="5113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과학자의 실험실에서 발견되는 효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훈련받은 인력 등이 모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즉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리고 직접적으로 기술 혁신을 낳지 않음은 명백하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실험실에서 발견된 어떤 효과나 물질이 기술화되기까지는 적게는 몇 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길게는 수십 년까지의 시간이 걸리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 어떤 연구가 실용성을 띨 것인가조차 처음에는 분명치 않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여전히 대부분의 과학 연구는 직접 산업 기술화되지 않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과학 분야의 발전 자체에만 기여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6C15-3FF3-4322-8004-C891805F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F28-7CBD-4EEE-A38B-6958B139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AEA4-738D-4A0A-96D4-5E2E02C8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0F87-F4C7-4147-BA2E-C73426ED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B3CF-059F-4AAB-A960-673C70B6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A6B5-A571-448A-BAB5-904D4AE9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F701-93BE-4BBA-9DAC-ACE8F7F1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7CBE-C6B0-4F56-8A7F-5538585F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3332-11FD-42A7-A79D-81C5437A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B60B-0591-45FA-B34F-AC03F923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A06F-85B6-4092-A1E5-E18D5291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970-5C0D-41CB-A216-CE7DB765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1F80-C203-45B4-9D7C-CD0DEC07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68EB-77B8-4D19-8DF8-F109AE7E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7CE7-0DB3-4219-BFED-69FCE0FA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429D-F5CE-4E2C-B272-A1767D43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2659-AE77-4DA0-BD53-A9176742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EAC5-5326-40E5-A408-82F62789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4BA0-63A1-479E-8300-7B77335B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2F9-D9D0-4353-9016-2B1339C2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444-0F21-497D-9737-F8AE8B70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180-33BF-4764-9586-E8AC5375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167-23C1-4FFA-A725-11396E34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A73-89EA-43EB-8D4D-183424B5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0BDF-B21B-4E78-B811-10EF69C85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vantGarde Bk BT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9C81-665F-4708-8E40-238DF43B7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vantGarde Bk BT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vantGarde Bk BT"/>
              </a:rPr>
              <a:t>과학과 기술의 상호작용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과학과 기술의 관계에 대한 통념들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전통적인 통념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과학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기술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실체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지식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이론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 vs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실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응용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대상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자연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인공물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동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지적 호기심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실질적인 유용성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목적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설명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예측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과 이해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최대 효율을 위한 디자인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현대적인 통념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과학기술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=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과학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+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기술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“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과학 기술 혁명을 거치며 과학과 기술은 결합해서 하나가 되었다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.”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“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현대 기술은 과학의 내용과 방법이 응용된 응용과학이다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.”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과학과 기술의 ‘비대칭적’ 이분법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기술은 과학의 응용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	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전자기학</a:t>
            </a:r>
            <a:r>
              <a:rPr b="0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전자기술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재료과학</a:t>
            </a:r>
            <a:r>
              <a:rPr b="0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철강기술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열역학</a:t>
            </a:r>
            <a:r>
              <a:rPr b="0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디젤엔진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고체물리학</a:t>
            </a:r>
            <a:r>
              <a:rPr b="0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반도체기술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분자생물학</a:t>
            </a:r>
            <a:r>
              <a:rPr b="0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유전공학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핵물리학</a:t>
            </a:r>
            <a:r>
              <a:rPr b="0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핵발전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폭탄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통념 넘어서기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기계로서의 자연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&amp;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자연의 연장으로서의 인공물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현대 과학의 대상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실험실에서 ‘인간이 만들어낸’ 자연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자연과학의 연구 대상으로서의 증기기관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지식으로서의 기술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&amp;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실천으로서의 과학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암묵적 지식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Tacit Knowledge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으로서의 기술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기술 지식이 과학에 선행하는 사례들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금속학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비행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무선전신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공학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Engineering Science): 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과학의 직접 응용으로 보이는 경우도 과학 이론은 상당한 변형을 겪으며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마땅한 과학 이론이 없을 때에는 공학자들이 이론을 직접 만들어 내기도…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실천으로서의 과학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새로운 자연 현상과 ‘효과’의 창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대상의 조작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기술자의 작업장으로서의 실험실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암묵적 지식들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숙련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훈련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과학과 기술의 ‘역사적’ 관계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과학과 기술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vantGarde Bk BT"/>
              </a:rPr>
              <a:t>: </a:t>
            </a:r>
            <a:r>
              <a:rPr b="1" lang="zh-CN" sz="2200" spc="-1" strike="noStrike">
                <a:solidFill>
                  <a:srgbClr val="cc0000"/>
                </a:solidFill>
                <a:latin typeface="AvantGarde Bk BT"/>
              </a:rPr>
              <a:t>상이한 제도적 기반</a:t>
            </a:r>
            <a:r>
              <a:rPr b="1" lang="en-US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zh-CN" sz="2200" spc="-1" strike="noStrike">
                <a:solidFill>
                  <a:srgbClr val="cc0000"/>
                </a:solidFill>
                <a:latin typeface="AvantGarde Bk BT"/>
              </a:rPr>
              <a:t>목표</a:t>
            </a:r>
            <a:r>
              <a:rPr b="1" lang="en-US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zh-CN" sz="2200" spc="-1" strike="noStrike">
                <a:solidFill>
                  <a:srgbClr val="cc0000"/>
                </a:solidFill>
                <a:latin typeface="AvantGarde Bk BT"/>
              </a:rPr>
              <a:t>가치체계를 가진 서로 구분되는 실체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(1)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과학과 기술에 종사하는 계층의 차이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 역사적으로 서구 사회에서 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16-17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세기 이전까지 과학과 기술의 교류는 거의 없었음 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(2)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자연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인공을 구분하는 아리스토텔레스 자연철학의 영향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vantGarde Bk BT"/>
              </a:rPr>
              <a:t>르네상스기 이후 이 둘을 가로막는 장벽에 점차 빈틈이 생겨나고 부분적으로 장벽이 허물어지기 시작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(1)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르네상스기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엔지니어의 사회적 지위 향상</a:t>
            </a:r>
            <a:r>
              <a:rPr b="1" lang="en-US" sz="2200" spc="-1" strike="noStrike">
                <a:solidFill>
                  <a:srgbClr val="cc0000"/>
                </a:solidFill>
                <a:latin typeface="AvantGarde Bk BT"/>
              </a:rPr>
              <a:t>: </a:t>
            </a:r>
            <a:r>
              <a:rPr b="1" lang="zh-CN" sz="2200" spc="-1" strike="noStrike">
                <a:solidFill>
                  <a:srgbClr val="cc0000"/>
                </a:solidFill>
                <a:latin typeface="AvantGarde Bk BT"/>
              </a:rPr>
              <a:t>독학으로 학식을 쌓고 대학의 학자들과 교류</a:t>
            </a:r>
            <a:r>
              <a:rPr b="1" lang="en-US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zh-CN" sz="2200" spc="-1" strike="noStrike">
                <a:solidFill>
                  <a:srgbClr val="cc0000"/>
                </a:solidFill>
                <a:latin typeface="AvantGarde Bk BT"/>
              </a:rPr>
              <a:t>기술적 주제에 관한 책 집필 시작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2)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과학혁명기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실험과학의 등장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&amp;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자연과 인공물의 구분 약화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망원경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현미경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진공펌프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프리즘과 같은 기구들이 자연철학의 중요한 도구로 부각되기 시작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 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	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자연철학자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기구제작자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기술자 사이의 접점을 만들고 기술이 과학에 침투하는 계기 마련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9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3)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산업혁명기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18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세기말 영국의 산업도시들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버밍엄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맨체스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리즈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리버풀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뉴캐슬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셰필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더비 등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에 다양한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&lt;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철학과 문학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&gt;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들 설립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 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	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지역의 과학자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엔지니어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사업가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자본가들이 서로 교류할 수 있는 “경계 공간”의 역할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예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버밍엄의 루나 협회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(Lunar Society):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제임스 와트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조시아 웨지우드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조셉 프리스틀리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에라스무스 다윈 등이 플로지스톤 이론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열이론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증기기관 등 다양한 과학적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기술적 문제들을 놓고 토론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4)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19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세기말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-20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세기초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cc0000"/>
                </a:solidFill>
                <a:latin typeface="AvantGarde Bk BT"/>
              </a:rPr>
              <a:t>	</a:t>
            </a:r>
            <a:r>
              <a:rPr b="1" lang="ko-KR" sz="2400" spc="-1" strike="noStrike">
                <a:solidFill>
                  <a:srgbClr val="cc0000"/>
                </a:solidFill>
                <a:latin typeface="AvantGarde Bk BT"/>
              </a:rPr>
              <a:t>: </a:t>
            </a:r>
            <a:r>
              <a:rPr b="1" lang="ko-KR" sz="2400" spc="-1" strike="noStrike">
                <a:solidFill>
                  <a:srgbClr val="cc0000"/>
                </a:solidFill>
                <a:latin typeface="AvantGarde Bk BT"/>
              </a:rPr>
              <a:t>새로운 ‘과학적 공학’ 분야</a:t>
            </a:r>
            <a:r>
              <a:rPr b="1" lang="ko-KR" sz="2400" spc="-1" strike="noStrike">
                <a:solidFill>
                  <a:srgbClr val="cc0000"/>
                </a:solidFill>
                <a:latin typeface="AvantGarde Bk BT"/>
              </a:rPr>
              <a:t>(</a:t>
            </a:r>
            <a:r>
              <a:rPr b="1" lang="ko-KR" sz="2400" spc="-1" strike="noStrike">
                <a:solidFill>
                  <a:srgbClr val="cc0000"/>
                </a:solidFill>
                <a:latin typeface="AvantGarde Bk BT"/>
              </a:rPr>
              <a:t>화학공학</a:t>
            </a:r>
            <a:r>
              <a:rPr b="1" lang="ko-KR" sz="24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ko-KR" sz="2400" spc="-1" strike="noStrike">
                <a:solidFill>
                  <a:srgbClr val="cc0000"/>
                </a:solidFill>
                <a:latin typeface="AvantGarde Bk BT"/>
              </a:rPr>
              <a:t>전기공학</a:t>
            </a:r>
            <a:r>
              <a:rPr b="1" lang="ko-KR" sz="2400" spc="-1" strike="noStrike">
                <a:solidFill>
                  <a:srgbClr val="cc0000"/>
                </a:solidFill>
                <a:latin typeface="AvantGarde Bk BT"/>
              </a:rPr>
              <a:t>)</a:t>
            </a:r>
            <a:r>
              <a:rPr b="1" lang="ko-KR" sz="2400" spc="-1" strike="noStrike">
                <a:solidFill>
                  <a:srgbClr val="cc0000"/>
                </a:solidFill>
                <a:latin typeface="AvantGarde Bk BT"/>
              </a:rPr>
              <a:t>의 탄생</a:t>
            </a:r>
            <a:endParaRPr b="1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a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두 분야에 ‘양다리’를 걸친 사람들이 중요한 역할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Scientist-engineer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과학을 공부하고 기술적 문제에 관심 가진 사람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Practicing-engineer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기술 분야에서 활동하면서 자신의 현장경험을 이론화하려 애썼던 사람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b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새로운 ‘경계 공간’인 산업체 연구소의 설립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1880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년대 독일의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Bayer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같은 화학회사에서 전문 과학자 고용 시작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1900-20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년대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GE, Du Pont, AT&amp;T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에 산업체 연구소 설립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당장의 필요에 따른 연구도 하면서 이와 연관되는 ‘기초’연구도 수행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(5)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1970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년대 이후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1970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년대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DNA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재조합 실험 이후의 유전공학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1990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년대 이후의 나노기술 등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과학과 기술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연구와 상업화의 간격이 많이 사라짐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과학연구의 결과물이 곧바로 특허출원의 대상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‘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기술과학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(technoscience)’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이라는 용어 등장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과학과 기술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전반적인 역사적 경향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과학과 기술의 관계는 역사적으로 점차 밀접해지고 있음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 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	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그러나 과학과 기술간의 관계는 구체적인 분야에 따라 불균등하며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이 둘이 단순히 합쳐져서 하나가 된 것은 아님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!!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과학이 기술에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기술이 과학에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과학이 기술에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...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패러데이 실험실의 전자기 유도 효과 → 전동기와 발전기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헤르츠 실험실의 전자기파 효과 → 무선통신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*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	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그러나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과학적 효과의 발견이 곧바로 기술로 이어지는 것은 아님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기술이 과학에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...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산업혁명기의 증기기관 → 열역학의 주요한 문제 제공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벨의 전화기 → 미세 전류 측정 장치로 개조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통신 위성의 노이즈 분석 → 우주 배경 복사의 발견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과학과 기술의 다양한 접점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과학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다양한 수준의 이론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실험실에서의 실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기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숙련 등의 복합체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기술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다양한 수준의 지식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실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숙련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설계 능력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인공물 등의 복합체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단순결합은 불가능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 But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다양한 층위에서 접점 형성 가능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현대에 올수록 둘 사이의 경계가 모호한 새로운 공간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e.g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기업 연구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대학의 반도체 연구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이 늘어가고 있음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7-05-14T11:03:28Z</dcterms:modified>
  <cp:revision>39</cp:revision>
  <dc:subject/>
  <dc:title>중세 유럽의 과학</dc:title>
</cp:coreProperties>
</file>